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89C-0E98-4CC1-89B4-E2FB363F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EC7-4247-4CF0-9CF3-F1C0B3BE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082-C395-4317-9031-C9868018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7C5-D08A-4F9A-B8E2-2EF314B7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699F-3A8F-41A4-9F08-A15450D4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E783-7C16-4398-ADB2-4C0163C8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A876-EB98-4717-9814-84392B34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3BB8-4307-4E36-8EC2-DCE73433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C507-037B-45E2-809B-7D93B5D9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010D-9E43-4518-BA64-0C92BAFE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C3AF-1951-40F3-8B0E-95838142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CE8-E6DA-4055-B783-FDA47E0E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3F40-06F3-4D55-A909-435F5C31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E501-642B-4177-904E-045323DE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138A-34BD-440C-BEFC-3A86E35A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E0FE-F662-47D6-B03A-F7FF6B3D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7CA8-B572-480B-AA1B-A33FDCD5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942E-C8B6-4E22-97E9-BEC821C6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118A-EFD6-4693-8A15-F95A4947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A6E1-D2D3-4D34-AC24-E83FD569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E883-4ABE-4275-A58F-6BFE700A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614D-E454-4AF7-8BE6-6235FD09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908-5D8E-4B1C-AA9A-E7DF4077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06E6-1C4E-467B-8B21-1985BF0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8F92-6AD7-4843-99FD-B7008901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0CA4-2617-4FDD-A46C-4AD4887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33B8-DFE7-4ED5-AAFB-FA9D6E49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420C-1268-46B7-96F1-A57D01B1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553A-91DA-49C5-8DD2-C5C4F7CD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5B2E-5EA4-4E86-A83B-BA0810C0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C5A87-8D03-4843-B9AD-FC669521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666B-D280-43E4-97B2-9C21FF84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0DE5-44FA-41E0-9B54-4FF8232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738-0240-47AC-BEF0-629F8790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977D4-7BF6-45AC-BBF7-A637CB5F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AA1F-4CCD-4423-B3C9-C82E74B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2AD5-3C29-4603-AD08-19D7382A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C7E5-FA35-4FD7-8D03-725DD08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A514-D18B-456A-B373-38C2157B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AB3C1-CF43-46D4-AB71-D60ADBC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70E26-4EFC-4F01-A072-35DC33E3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80FA-D087-4B71-AC89-6FE979DC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EE489-EA27-47C9-BB29-F307D106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9D387-C1CE-499F-9664-5BDDFC9D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57C-9F9E-478C-8603-2F45EB60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3B314-5AA3-41F2-9B4A-F6FC1ABE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0835-03D9-4694-8222-3A67A1A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72547-9459-4616-A05D-9713DF7B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1ADBA-41A8-48EB-8C3A-4546C00B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4631-7C5B-41B7-B5E4-35FFE9C3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CB887-85F9-4DF2-A1D7-CBEBF9D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FF634-D330-4565-8D67-51C18FA5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44802-9ABD-4858-97F4-0255CFC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7F7B-59A2-424B-9727-3B4F617E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B8B11-87DF-45CB-911D-336C9478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B0D-6760-481D-A290-8C7AF503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6E7E8-81B5-4913-A118-683412E6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C51-862D-43CA-816E-DD0F746E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F85-E5A8-46A1-BA53-245DE8C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3AE-AF04-429A-B383-05C6E054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7155-B70A-4234-8E7B-6DEA726FD4C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1CC1-EABB-46BA-94F8-D28FA438B7A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7857-2549-4DB2-9C22-18DFE2D32BC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2D04-8AA0-4BEB-8C09-0BC03E0C5B9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5586-1BFF-4909-9E19-7D6073C134A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2865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0" y="1071720"/>
            <a:ext cx="40384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вы идете группой, то расстояние между людьми  должно быть не меньше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-6 </a:t>
            </a: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етр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юкзак повесьте на одно плечо, а еще лучше - волоките на веревке в 2-3 метрах сзад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6" descr="вод"/>
          <p:cNvPicPr/>
          <p:nvPr/>
        </p:nvPicPr>
        <p:blipFill>
          <a:blip r:embed="rId1"/>
          <a:stretch/>
        </p:blipFill>
        <p:spPr>
          <a:xfrm>
            <a:off x="5481720" y="1571760"/>
            <a:ext cx="366228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0" y="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post-20-1108332791"/>
          <p:cNvPicPr/>
          <p:nvPr/>
        </p:nvPicPr>
        <p:blipFill>
          <a:blip r:embed="rId1"/>
          <a:stretch/>
        </p:blipFill>
        <p:spPr>
          <a:xfrm>
            <a:off x="0" y="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img-42774"/>
          <p:cNvPicPr/>
          <p:nvPr/>
        </p:nvPicPr>
        <p:blipFill>
          <a:blip r:embed="rId1"/>
          <a:stretch/>
        </p:blipFill>
        <p:spPr>
          <a:xfrm>
            <a:off x="0" y="0"/>
            <a:ext cx="9144000" cy="478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4360" y="134460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торожно спускайтесь с берега: лед может неплотно соединяться с сушей; могут быть трещины; подо льдом может быть возду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выходите на темные участки льда - они быстрее прогреваются на солнце и, естественно, быстрее тают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9" descr="picture31465242"/>
          <p:cNvPicPr/>
          <p:nvPr/>
        </p:nvPicPr>
        <p:blipFill>
          <a:blip r:embed="rId1"/>
          <a:stretch/>
        </p:blipFill>
        <p:spPr>
          <a:xfrm>
            <a:off x="4929120" y="1428840"/>
            <a:ext cx="421488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421965_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2"/>
          <p:cNvSpPr/>
          <p:nvPr/>
        </p:nvSpPr>
        <p:spPr>
          <a:xfrm>
            <a:off x="714240" y="1428840"/>
            <a:ext cx="45720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зопасным для человека считается лед толщиною не менее 10 сантиметров в пресной воде и 15 сантиметров в соле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чность льда можно определить : лед голубого цвета – прочный, белого – прочность его в 2 раза меньше. Серый, матово-белый или с желтоватым оттенком лед обычно ноздреватый и пористый ненадежен. Такой лед обрушивается без предупреждающего потреск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2" descr="http://www.serpuhov.ru/spaw/images/index/led_nara.jpg"/>
          <p:cNvPicPr/>
          <p:nvPr/>
        </p:nvPicPr>
        <p:blipFill>
          <a:blip r:embed="rId2"/>
          <a:stretch/>
        </p:blipFill>
        <p:spPr>
          <a:xfrm>
            <a:off x="5143680" y="1500120"/>
            <a:ext cx="378612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WordArt 6" descr=""/>
          <p:cNvPicPr/>
          <p:nvPr/>
        </p:nvPicPr>
        <p:blipFill>
          <a:blip r:embed="rId1"/>
          <a:stretch/>
        </p:blipFill>
        <p:spPr>
          <a:xfrm>
            <a:off x="450720" y="311040"/>
            <a:ext cx="7278840" cy="1189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Одиночный пешеход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не мен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5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Одиночный пешеход с грузом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не мен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7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Группа людей (расстояние между людьми не менее 6м)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не мен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12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Автобус (без пассажиров)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не мен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40-60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Трактор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бол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60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-25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494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642600"/>
            <a:ext cx="403848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Опасно ходить по льду, покрытому снегом (снег, выпавший на только что образовавшийся лед, помимо того, что маскирует полыньи, замедляет рост ледяного покрова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Лед более тонок на течении, особенно быстром, на глубоких и открытых для ветра местах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над тенистым и торфяным дном;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у болотистых берегов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в местах выхода подводных ключей;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под мостами; 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в узких протоках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вблизи мест сброса в водоемы теплых и горячих вод промышленных и коммунальных предприяти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6" descr="17007"/>
          <p:cNvPicPr/>
          <p:nvPr/>
        </p:nvPicPr>
        <p:blipFill>
          <a:blip r:embed="rId1"/>
          <a:stretch/>
        </p:blipFill>
        <p:spPr>
          <a:xfrm>
            <a:off x="5219640" y="6206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3313"/>
          <p:cNvPicPr/>
          <p:nvPr/>
        </p:nvPicPr>
        <p:blipFill>
          <a:blip r:embed="rId2"/>
          <a:stretch/>
        </p:blipFill>
        <p:spPr>
          <a:xfrm>
            <a:off x="7164360" y="836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5158"/>
          <p:cNvPicPr/>
          <p:nvPr/>
        </p:nvPicPr>
        <p:blipFill>
          <a:blip r:embed="rId3"/>
          <a:stretch/>
        </p:blipFill>
        <p:spPr>
          <a:xfrm>
            <a:off x="5003640" y="242100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981"/>
          <p:cNvPicPr/>
          <p:nvPr/>
        </p:nvPicPr>
        <p:blipFill>
          <a:blip r:embed="rId4"/>
          <a:stretch/>
        </p:blipFill>
        <p:spPr>
          <a:xfrm>
            <a:off x="7020000" y="285264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17"/>
          <p:cNvPicPr/>
          <p:nvPr/>
        </p:nvPicPr>
        <p:blipFill>
          <a:blip r:embed="rId5"/>
          <a:stretch/>
        </p:blipFill>
        <p:spPr>
          <a:xfrm>
            <a:off x="5508720" y="4508640"/>
            <a:ext cx="280836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-36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 местах, где растет камыш, тростник и другие водные растения лед более тонки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ед в нижнем бьефе плотины, где даже в сильные морозы кратковременные попуски воды из водохранилища способны источить лед и образовать в нем опасные промоины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температура воздуха выше 0 градусов держится более трех дней, то прочность льда снижается на 25%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9"/>
          <p:cNvPicPr/>
          <p:nvPr/>
        </p:nvPicPr>
        <p:blipFill>
          <a:blip r:embed="rId1"/>
          <a:stretch/>
        </p:blipFill>
        <p:spPr>
          <a:xfrm>
            <a:off x="4786200" y="549360"/>
            <a:ext cx="3857760" cy="2522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1223844"/>
          <p:cNvPicPr/>
          <p:nvPr/>
        </p:nvPicPr>
        <p:blipFill>
          <a:blip r:embed="rId2"/>
          <a:stretch/>
        </p:blipFill>
        <p:spPr>
          <a:xfrm>
            <a:off x="4859280" y="3284640"/>
            <a:ext cx="3765600" cy="2824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untitledкенг"/>
          <p:cNvPicPr/>
          <p:nvPr/>
        </p:nvPicPr>
        <p:blipFill>
          <a:blip r:embed="rId1"/>
          <a:stretch/>
        </p:blipFill>
        <p:spPr>
          <a:xfrm>
            <a:off x="428760" y="571680"/>
            <a:ext cx="7599240" cy="4560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1231508723_3"/>
          <p:cNvPicPr/>
          <p:nvPr/>
        </p:nvPicPr>
        <p:blipFill>
          <a:blip r:embed="rId1"/>
          <a:stretch/>
        </p:blipFill>
        <p:spPr>
          <a:xfrm>
            <a:off x="0" y="0"/>
            <a:ext cx="85010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user</cp:lastModifiedBy>
  <dcterms:modified xsi:type="dcterms:W3CDTF">2019-03-23T14:44:36Z</dcterms:modified>
  <cp:revision>71</cp:revision>
  <dc:subject/>
  <dc:title>Слайд 1</dc:title>
</cp:coreProperties>
</file>